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6BC-0F72-4443-907C-179E90B5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BEB-BED8-41B8-88BD-18DFAAFB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2B1-ABF8-447E-AC11-02AD60F3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9CE-7E55-47C2-8592-4DB9F2E8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DA5-EAA7-485F-BDC4-317F6231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187-931A-48E2-9502-AC45F08C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7C7-CCA6-4F6B-8E2A-D98FF7F8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975-2888-4B51-ACB4-3C64E995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999-66CE-4923-A9DF-D2D60245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CB8-F3D1-482D-AD7E-76E989B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C4E-FD5F-47ED-8850-1475E73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9A7-B145-43EE-91E7-70775C64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A396-505A-4344-B8E9-E1EBF3C9F19D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iecte realizate de el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124080" y="4114800"/>
          <a:ext cx="2160720" cy="1689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114800"/>
                    <a:ext cx="21607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05:36Z</dcterms:created>
  <dc:creator>Maria</dc:creator>
  <dc:description/>
  <dc:language>en-US</dc:language>
  <cp:lastModifiedBy>Maria</cp:lastModifiedBy>
  <dcterms:modified xsi:type="dcterms:W3CDTF">2010-11-11T16:37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